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5A3AD-0180-45FE-B837-282B371EC9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FA251-BCA8-41DA-ACB4-95FA428794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1BB3E-6D83-4FA3-9F65-6ADD31C55D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9B96C-D4C3-4816-AE5C-B12497732D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55E3F1-147F-4545-8E44-4CAEB2D214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53759B-E6C0-485C-A972-3EA343C019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001471-868C-4A41-90E7-FBC49C6D38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B0EBEB-F152-4207-BD81-572D8B88AF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A5AB5E-364B-43F4-90DA-E00BC56E47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29CC4F-D98B-45D2-B17C-17BC59A2B0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3CE3E9-E746-4E25-9757-62102C6AF6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C4D275-3A8E-46F4-9FD7-CEE8805D8E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491632-FD74-4204-81FD-DFCAC1E797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FEEFE1-D5E2-4380-A465-57DC4E5ADD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ED0C5A-CB0A-4B8F-9E1B-9ACB8E55DC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314D06-A06E-4367-8C23-95EE1BE80F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BFA0B-54B8-473C-8BCE-E4F6EFF641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LM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LM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ies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Charles Wilson</cp:lastModifiedBy>
  <cp:lastPrinted>2008-06-04T21:47:01Z</cp:lastPrinted>
  <dcterms:modified xsi:type="dcterms:W3CDTF">2008-06-05T21:29:01Z</dcterms:modified>
  <cp:revision>86</cp:revision>
  <dc:subject/>
  <dc:title>AT Basic System Example</dc:title>
</cp:coreProperties>
</file>