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E025-C023-4F79-9BB8-B3932CE14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BF2F-E008-446C-B3E4-7A698A914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66B0-A57A-46CB-A19C-2FB67C307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8C49-47B2-4A38-B270-67B0BD04D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2897-310E-47D7-B0B1-69498C8F6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7DC2E-8EFC-4C06-9A1A-6387A30D0D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13995-98B6-4300-97B9-E5A55DAA7A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1A926-5B4F-431F-A102-3693238B19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0B15E-7B3C-4836-99A2-5140530B39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2F7C6-D7C6-4759-95FE-348D10F144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8DD3D-F53E-447B-A58E-E16727C120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3C10D-0BD4-4CE8-B2FD-D75B74FCBE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9A769-AB86-4BDB-80C2-90747AC6C5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35F27-2CAB-4446-9AD6-CCCD296E06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FEF6C-7876-4B94-AC09-E6909A4820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F9FEF-DC15-4455-B115-C194548899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ABE25-46B0-4A8A-8EF7-AE94285F33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6321-80B3-4C4B-90F5-8B233CFE7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4T22:13:32Z</dcterms:modified>
  <cp:revision>84</cp:revision>
  <dc:subject/>
  <dc:title>AT Basic System Example</dc:title>
</cp:coreProperties>
</file>