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E1F8-FF41-4DE9-A45C-0177093EF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D04B-883E-4087-B099-E6AF41C31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AA7A-2F35-4ADA-A921-86A75A1CB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0A58-6626-4ADB-8F82-B2421B264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C170-E131-4529-9B01-27A2AC5D3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D4E2A-CC26-41D3-8B93-0E77EBACD7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06998-54E1-420F-A7EE-0B739FD8CC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A31ED-10B1-46A8-8168-3212CF92A5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C5D7D-01B6-4C63-B4E4-2404868CA7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6A3EE-CAF9-4531-ADA7-C77B9FAD82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BFBB5-F51F-495D-97BE-66DDC60C83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9FE08-B3FB-486D-AA09-038DA68445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1D0D6-05B4-41C6-B6F3-27E123FD9D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208AB-7F59-448A-8210-A0709AFBA9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9F122-B010-49C5-A9E2-AB57771C2F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07180-4CF4-41D5-9E24-896D695166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D8A08-B271-492C-9F76-01BF6153D8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879F-4F39-4212-8BC9-434C055CC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5T12:39:23Z</dcterms:modified>
  <cp:revision>85</cp:revision>
  <dc:subject/>
  <dc:title>AT Basic System Example</dc:title>
</cp:coreProperties>
</file>