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5EBB-C6D6-4DC8-8BA9-AAE61CA68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69AB-49B2-4968-B393-ED4F77BC0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9433-2C90-4A2B-A4F3-86C444E02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6FED-7348-42A2-B4D8-8359617F1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ACA3-BC39-4A13-901D-0671B4759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4962E-78B0-4C16-83C2-DBEB1CA7C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F5DB5-9D54-4001-8C2B-9B6AF5077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5C7FC-818A-40B1-86DA-89D1DD425D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F636-33C2-491B-BABE-0825356512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DC982-EBED-4A2E-BC8F-3565FFACCE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E70B5-7495-433F-97A2-4324AE7F7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3A8C2-FCA0-4232-8772-E8A6F07CD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9B555-3E50-46E7-ADFF-96ECCD56B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0C1BD-3B5D-42E9-9789-70DBCC534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F1B57-B271-41D6-9C32-9A89571E2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ED56-99F0-4801-8D56-4368E8E57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C5EA3-FB98-4F7E-8ECB-2BA7412AD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5A4A-D0CB-4D39-9132-86BB46C81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5T22:07:33Z</dcterms:modified>
  <cp:revision>86</cp:revision>
  <dc:subject/>
  <dc:title>AT Basic System Example</dc:title>
</cp:coreProperties>
</file>