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0A25-CB3E-468D-8C4A-F165CC9F7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6EB3-024C-4064-9975-C7CB0175B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C111-2497-4CA6-88EA-9426DB03D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7D5B-81CD-480D-A3A9-105FF7F01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A8CD-D529-44DC-8692-500610722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3E49-3935-4007-AFFC-5076DC1A8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E87D-903F-46FE-B448-4C56CC996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90F7-B0D7-4AE5-9DE4-D336BC096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7B20-1A9D-4BA8-AC15-C84BB4AC7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21C0C-8188-4E9D-AAD6-B80FE7F1A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4F7D-3920-4CAD-90FD-96447790E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3A9A2-71C3-4414-B907-77DAAD48B8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4B6A-C63E-4495-BA4A-B81768899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2A660-3485-44EE-B4AC-0BBC1F3D5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B53D-79A1-43CC-A1B5-4E38CEF5E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1A22-8748-49EA-9884-79DBAA666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8E57-E9F2-42B9-9C06-0A2C2458B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A0F2-3F0B-4C72-BBFB-A381F5538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6T16:59:39Z</dcterms:modified>
  <cp:revision>87</cp:revision>
  <dc:subject/>
  <dc:title>AT Basic System Example</dc:title>
</cp:coreProperties>
</file>