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A6BD5-C721-4466-A6A3-64D4D0E506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E5D00-5AB3-4520-8380-4414765CA5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01332-117D-455A-A28C-563229ADBA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BF55E-4E99-4312-A872-4ABB7FC7EA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B0607-B03B-47FC-84D0-8AA1B89CD0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A4906F-C9A6-4966-8AB3-F4CCB496F4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06CCE1-3FD9-4FA1-9503-736D2393A6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99B9A0-9D90-4BD3-BFB0-CB9E9214BF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ECA26C-3331-4CA2-B087-23517C3CA9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895970-268A-43AE-A23F-49D70AB37F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EDF15F-1540-4369-BE2A-BCCFDF9BB4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135932-CCDC-439A-B893-091B057EDE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24A551-6CFE-4EE8-A4A8-F1FF70CD68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A0F621-5784-4998-AEAF-580166AE55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FD5ED2-AE43-404B-A8BE-036BC9E96A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E02A4D-FA48-45A6-AC76-F4B082B64D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EBD1A4-10CD-4C6A-8546-083E08AA1F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58A86-A815-4AE2-AEB7-4711D275C1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ies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Jack Donovan</cp:lastModifiedBy>
  <dcterms:modified xsi:type="dcterms:W3CDTF">2009-05-04T21:26:45Z</dcterms:modified>
  <cp:revision>87</cp:revision>
  <dc:subject/>
  <dc:title>AT Basic System Example</dc:title>
</cp:coreProperties>
</file>