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5D3F-DE5D-4405-9F75-66E734AC6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0CA0-A41A-47C8-8A6C-CD2849952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DF0D-3DB9-4A54-8ED7-E7234107F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9298-978E-4637-AB3F-44AC61A91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74FB-E387-48FD-A83A-9C3D010F1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6720-4F0B-4CEC-91E9-72BA24A87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4A8C-2F5C-49D9-AC03-1408834BC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24CC2-CF3E-420E-BE82-A6E7D9AEB8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8BF93-22E5-44F8-92AD-032A113A49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4A3AE-7236-4B45-85B8-C0DA26BE3A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67F59-4CB8-4955-A770-6138A9D499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2658A-4F67-45D8-981F-A135CDBF23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EC6BA-3700-4B34-8B74-0085EF3C27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BD43D-C21E-4014-8498-B686EE4807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50893-9E77-4C38-A506-E83B83E697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04FEF-2522-4C2F-A619-89BBF6DA27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FE4F6-1E2E-4EA0-ADEE-F9D12042A7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28207-CEA5-43BD-A1EE-A68559E394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ED055-7212-4E55-B733-03B999C5E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30BF-4077-4B69-8DCC-4444C10F7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arch Predicat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Search Predicat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wner module simple_ip has CCI parameters of different data typ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odule search_ip performs various searches and reports the matching paramet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example, module search_ip performs the following parameter search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value greater than or equal to 3 and smaller than 8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 name contains the character ‘t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CI parameters representing basic data types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787400" y="1322280"/>
            <a:ext cx="1989360" cy="436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3" name="Straight Arrow Connector 16"/>
          <p:cNvCxnSpPr>
            <a:stCxn id="92" idx="2"/>
          </p:cNvCxnSpPr>
          <p:nvPr/>
        </p:nvCxnSpPr>
        <p:spPr>
          <a:xfrm flipH="1">
            <a:off x="2775960" y="1758600"/>
            <a:ext cx="684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Folded Corner 41"/>
          <p:cNvSpPr/>
          <p:nvPr/>
        </p:nvSpPr>
        <p:spPr>
          <a:xfrm>
            <a:off x="3062160" y="2081160"/>
            <a:ext cx="3048120" cy="157644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bool&gt; bool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ci_param&lt;char&gt; char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char&gt; uchar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int&gt; u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cci_param&lt;float&gt; floa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ci_param&lt;double&gt; double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std::string&gt; string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CI parameter ‘Owner’ module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he search_ip module which search sim_ip’s parameter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1787400" y="1143000"/>
            <a:ext cx="1989360" cy="404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arch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6"/>
          <p:cNvCxnSpPr>
            <a:stCxn id="97" idx="2"/>
          </p:cNvCxnSpPr>
          <p:nvPr/>
        </p:nvCxnSpPr>
        <p:spPr>
          <a:xfrm flipH="1">
            <a:off x="2775960" y="1547640"/>
            <a:ext cx="6840" cy="438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" name="Folded Corner 41"/>
          <p:cNvSpPr/>
          <p:nvPr/>
        </p:nvSpPr>
        <p:spPr>
          <a:xfrm>
            <a:off x="3062160" y="279252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Integers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integer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earches simple_ip’s parameter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Folded Corner 41"/>
          <p:cNvSpPr/>
          <p:nvPr/>
        </p:nvSpPr>
        <p:spPr>
          <a:xfrm>
            <a:off x="3062160" y="351468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tring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string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Folded Corner 41"/>
          <p:cNvSpPr/>
          <p:nvPr/>
        </p:nvSpPr>
        <p:spPr>
          <a:xfrm>
            <a:off x="3062160" y="421020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Numbers greater that or equal to 3 and smaller than 85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value_in_range_predicate(const cci_param_untyped_handle handle, double greater_eq, double low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Folded Corner 41"/>
          <p:cNvSpPr/>
          <p:nvPr/>
        </p:nvSpPr>
        <p:spPr>
          <a:xfrm>
            <a:off x="3062160" y="506736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arameter name contains at least ‘t’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name_contains_character_predicate( const cci_param_untyped_handle handle, const char charact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062160" y="206856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Original List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s the original list of parameters in simple_ip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2_Search_Predicate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927000"/>
            <a:ext cx="868680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Original li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bool_param = tr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double_param =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Integers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String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Numbers greater than or equal to 3 and smaller than 85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Parameter name contains at least 't'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52:42Z</dcterms:modified>
  <cp:revision>184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52:42Z</vt:lpwstr>
  </property>
  <property fmtid="{D5CDD505-2E9C-101B-9397-08002B2CF9AE}" pid="5" name="TitusGUID">
    <vt:lpwstr>9e508fab-0d4d-42f6-bb4e-875dc6a2e392</vt:lpwstr>
  </property>
</Properties>
</file>