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0BF9-C133-47AC-8E01-A062D7158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8824-130D-4EE8-A5DB-A8A65ED23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8C13-176A-4EB5-B121-39371649F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41D0-659C-42FA-9A73-B6CC5842D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E9AF5-5FA9-4E39-83FD-FB01F51C6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F039E-FBFF-453F-A0E3-EFFF8E0CF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C636-3F7A-42E9-B5B1-8940907EE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344B7-4007-41BC-B1E2-39522D8CD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5762A-926A-4B01-AD76-5F8BE4686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DA36-8982-4160-8EC3-7CCB65609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6C32E-3714-4197-A2C7-220C0B273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D03F-87E6-4C7D-93AF-17C512961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0899-AA86-4CBE-89EF-EC621E661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063B-BDBD-4C4E-BE38-E01837AF0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8FD9-44C4-4DBF-B296-3FCB297C0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B1C8-4DCF-403B-8BF2-66015679C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0.9.0_pub_rev_20171217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…/rapidjson-1.1.0.tar.gz -C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rmdir rapidjson; ln –s rapidjson-1.1.0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See cci-0.9.0_pub_rev_20171217/README.txt for instructions to download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environment variables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vobs/ti_systemc/tools/boost/boost_1_44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0.9.0_pub_rev_201712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You can find a half-done script at cci_test/scripts/source.bas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packages/gs_bro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scripts/README_CCI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(required due to long path nam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0.9.0_pub_rev_20171217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d.. 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_code\cci_test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2-19T20:41:36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9 20:41:36Z</vt:lpwstr>
  </property>
  <property fmtid="{D5CDD505-2E9C-101B-9397-08002B2CF9AE}" pid="5" name="TitusGUID">
    <vt:lpwstr>e3de821b-1c25-48f5-972a-c3014a611f88</vt:lpwstr>
  </property>
</Properties>
</file>